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5AC-C729-47B9-B09E-FAF0330C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557-9B70-492B-B5B0-A7C3796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565-7164-490D-BBFF-494BF338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2B7-3EDD-4D14-85F4-E201A9D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C66-F0EE-463D-B460-90D3C1FE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A39-77B6-4D75-90B2-53141DF1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93C-1468-4E56-8AE1-20FF690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118-EBFD-42E7-8C97-6832BFA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C21-B97B-4DB7-AF43-0C299C5A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683-1953-4FBC-BEE6-7192195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8B8-CE2B-47E8-9F3D-6B91A18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A61-D17A-430C-932C-E1265FB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F76F-2631-4AA4-81AD-CC7F1955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1:26:38Z</dcterms:created>
  <dc:creator>PA Department of Education</dc:creator>
  <dc:description/>
  <dc:language>en-US</dc:language>
  <cp:lastModifiedBy>PA Department of Education</cp:lastModifiedBy>
  <dcterms:modified xsi:type="dcterms:W3CDTF">2009-05-06T01:26:52Z</dcterms:modified>
  <cp:revision>1</cp:revision>
  <dc:subject/>
  <dc:title>PowerPoint Presentation</dc:title>
</cp:coreProperties>
</file>